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wmf" ContentType="image/x-wmf"/>
  <Override PartName="/ppt/media/image8.jpeg" ContentType="image/jpeg"/>
  <Override PartName="/ppt/media/image10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3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A62F-9883-4F8B-83E8-410074ED4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94DE-5930-42CC-8561-146BE3E15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BD7F-CC1A-49DB-8BB6-D384D44B8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CADB-1F04-4954-9627-8B9D8500E8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21AF-D2E8-4464-85A3-503E30D24B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CDC3-1820-4FB7-A193-6A8D40120B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2AB0-079A-4312-B537-D6D562E81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4400-2A3E-466C-97DF-F14EA0508A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399F-4B33-41F4-BE2F-09028E8C5C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C84D-AAB7-4039-9583-0E25C21EB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D7D6-B203-4CBF-97C0-6697533A6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660F-2B5A-4F32-BF26-F9771FC9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2736-B980-4D24-8F9B-D3CB1872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1399-4367-4268-83C6-650E9991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300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284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300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284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3C88-467D-4CA2-89DB-3DE83E5B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A139-DFD3-4659-BFEB-3ADA004A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BE10-2B24-482D-9187-C439B617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4204-D7F3-40AE-ADAB-6CE416D3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6D80-FADA-46F0-B623-74A90102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16EC-59B4-457C-A533-33A11163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6400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2A19-561C-424B-A22B-5DF47470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8516-F287-4B7C-9264-541CDC30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51F6-F98F-496B-AB1C-01D06BCF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EE8B-3909-4020-9929-7BC5A088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B460-1D3D-42FE-8AFA-E8EF9F3A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7EB8-1DC0-4988-AE92-BFF6B90D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407F-CFD7-4342-AC21-D3B2DEE8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0300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2840" y="161136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0300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2840" y="4073040"/>
            <a:ext cx="26373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43A6-C429-46A2-911A-BEC40B40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55F0-6783-4224-8E68-91C861BF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E074-4B7E-4754-B94E-360EF1CB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A61F8-5470-402D-A142-AEF5F27C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6400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3D5F-7B1C-405E-BCC0-C41603A8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E2D9-61FA-454D-9AE6-7B050611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0760" y="407304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D1E5-77C8-4344-8767-23B3C3F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5626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0760" y="1611360"/>
            <a:ext cx="3997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81914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9234-45D1-4979-A319-D06C524D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7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94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38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7315200" y="6461280"/>
            <a:ext cx="1752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76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4FF0-694C-48D8-8981-BBE917D53BCA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293400" y="6476760"/>
            <a:ext cx="190476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83"/>
          <p:cNvSpPr/>
          <p:nvPr/>
        </p:nvSpPr>
        <p:spPr>
          <a:xfrm>
            <a:off x="304920" y="152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84" descr="p12"/>
          <p:cNvPicPr/>
          <p:nvPr/>
        </p:nvPicPr>
        <p:blipFill>
          <a:blip r:embed="rId4"/>
          <a:stretch/>
        </p:blipFill>
        <p:spPr>
          <a:xfrm>
            <a:off x="7238880" y="190440"/>
            <a:ext cx="1451160" cy="209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4"/>
          <p:cNvSpPr/>
          <p:nvPr/>
        </p:nvSpPr>
        <p:spPr>
          <a:xfrm>
            <a:off x="228600" y="3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94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38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533520" y="60948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920" y="62481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218960" y="38052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3454560" y="63082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A2F2-005B-48EF-A98A-759360CAC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611360"/>
            <a:ext cx="8191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огда людей станут учить не то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что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они должны дум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а тому, 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как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они должны дум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то тогда исчезнут всякие недоразум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Г. Лихтенберг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42920"/>
            <a:ext cx="8786880" cy="1143000"/>
          </a:xfrm>
          <a:prstGeom prst="rect">
            <a:avLst/>
          </a:prstGeom>
          <a:solidFill>
            <a:srgbClr val="add6ff"/>
          </a:solidFill>
          <a:ln w="9360">
            <a:solidFill>
              <a:srgbClr val="94e6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истемно – деятельностный подход и пути его реализации в условиях 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SDC13403.JPG"/>
          <p:cNvPicPr/>
          <p:nvPr/>
        </p:nvPicPr>
        <p:blipFill>
          <a:blip r:embed="rId1"/>
          <a:stretch/>
        </p:blipFill>
        <p:spPr>
          <a:xfrm>
            <a:off x="611280" y="3692520"/>
            <a:ext cx="4392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7358040" cy="10969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Ы → СИСТЕМНЫЙ ПОДХОД →ДЕЯТЕЛЬНОСТЬ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= системно – деятельностный подход (СДП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715000" y="3714840"/>
            <a:ext cx="2276640" cy="2995560"/>
          </a:xfrm>
          <a:custGeom>
            <a:avLst/>
            <a:gdLst>
              <a:gd name="textAreaLeft" fmla="*/ 110880 w 2276640"/>
              <a:gd name="textAreaRight" fmla="*/ 2165760 w 2276640"/>
              <a:gd name="textAreaTop" fmla="*/ 110880 h 2995560"/>
              <a:gd name="textAreaBottom" fmla="*/ 2884680 h 2995560"/>
            </a:gdLst>
            <a:ahLst/>
            <a:rect l="textAreaLeft" t="textAreaTop" r="textAreaRight" b="textAreaBottom"/>
            <a:pathLst>
              <a:path w="21600" h="28420">
                <a:moveTo>
                  <a:pt x="3600" y="0"/>
                </a:moveTo>
                <a:arcTo wR="3600" hR="3600" stAng="16200000" swAng="-5400000"/>
                <a:lnTo>
                  <a:pt x="0" y="24820"/>
                </a:lnTo>
                <a:arcTo wR="3600" hR="3600" stAng="10800000" swAng="-5400000"/>
                <a:lnTo>
                  <a:pt x="18000" y="28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1071720" y="3714840"/>
            <a:ext cx="2357280" cy="29955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95560"/>
              <a:gd name="textAreaBottom" fmla="*/ 2880720 h 2995560"/>
            </a:gdLst>
            <a:ahLst/>
            <a:rect l="textAreaLeft" t="textAreaTop" r="textAreaRight" b="textAreaBottom"/>
            <a:pathLst>
              <a:path w="21600" h="27448">
                <a:moveTo>
                  <a:pt x="3600" y="0"/>
                </a:moveTo>
                <a:arcTo wR="3600" hR="3600" stAng="16200000" swAng="-5400000"/>
                <a:lnTo>
                  <a:pt x="0" y="23848"/>
                </a:lnTo>
                <a:arcTo wR="3600" hR="3600" stAng="10800000" swAng="-5400000"/>
                <a:lnTo>
                  <a:pt x="18000" y="274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8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>
              <a:gd name="textAreaLeft" fmla="*/ 0 w 903240"/>
              <a:gd name="textAreaRight" fmla="*/ 90360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3892f"/>
              </a:gs>
              <a:gs pos="100000">
                <a:srgbClr val="edb4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0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>
              <a:gd name="textAreaLeft" fmla="*/ -360 w 903240"/>
              <a:gd name="textAreaRight" fmla="*/ 90324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aedf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1"/>
          <p:cNvGrpSpPr/>
          <p:nvPr/>
        </p:nvGrpSpPr>
        <p:grpSpPr>
          <a:xfrm>
            <a:off x="1857240" y="1071720"/>
            <a:ext cx="5356800" cy="2784960"/>
            <a:chOff x="1857240" y="1071720"/>
            <a:chExt cx="5356800" cy="2784960"/>
          </a:xfrm>
        </p:grpSpPr>
        <p:grpSp>
          <p:nvGrpSpPr>
            <p:cNvPr id="117" name="Group 12"/>
            <p:cNvGrpSpPr/>
            <p:nvPr/>
          </p:nvGrpSpPr>
          <p:grpSpPr>
            <a:xfrm>
              <a:off x="1857240" y="1320120"/>
              <a:ext cx="5356800" cy="2536560"/>
              <a:chOff x="1857240" y="1320120"/>
              <a:chExt cx="5356800" cy="2536560"/>
            </a:xfrm>
          </p:grpSpPr>
          <p:sp>
            <p:nvSpPr>
              <p:cNvPr id="118" name="Oval 13"/>
              <p:cNvSpPr/>
              <p:nvPr/>
            </p:nvSpPr>
            <p:spPr>
              <a:xfrm>
                <a:off x="1915560" y="1401120"/>
                <a:ext cx="5298480" cy="245556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1857240" y="1320120"/>
                <a:ext cx="5298480" cy="2454840"/>
              </a:xfrm>
              <a:prstGeom prst="ellipse">
                <a:avLst/>
              </a:prstGeom>
              <a:gradFill rotWithShape="0">
                <a:gsLst>
                  <a:gs pos="0">
                    <a:srgbClr val="8ed2e8"/>
                  </a:gs>
                  <a:gs pos="100000">
                    <a:srgbClr val="0099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Oval 15"/>
            <p:cNvSpPr/>
            <p:nvPr/>
          </p:nvSpPr>
          <p:spPr>
            <a:xfrm>
              <a:off x="2109960" y="1071720"/>
              <a:ext cx="4795920" cy="2333160"/>
            </a:xfrm>
            <a:prstGeom prst="ellipse">
              <a:avLst/>
            </a:prstGeom>
            <a:gradFill rotWithShape="0">
              <a:gsLst>
                <a:gs pos="0">
                  <a:srgbClr val="104425"/>
                </a:gs>
                <a:gs pos="100000">
                  <a:srgbClr val="2294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6"/>
            <p:cNvSpPr/>
            <p:nvPr/>
          </p:nvSpPr>
          <p:spPr>
            <a:xfrm>
              <a:off x="2172240" y="1085400"/>
              <a:ext cx="4679640" cy="2274840"/>
            </a:xfrm>
            <a:prstGeom prst="ellipse">
              <a:avLst/>
            </a:prstGeom>
            <a:gradFill rotWithShape="0">
              <a:gsLst>
                <a:gs pos="0">
                  <a:srgbClr val="229450">
                    <a:alpha val="0"/>
                  </a:srgbClr>
                </a:gs>
                <a:gs pos="100000">
                  <a:srgbClr val="b2dac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7"/>
            <p:cNvSpPr/>
            <p:nvPr/>
          </p:nvSpPr>
          <p:spPr>
            <a:xfrm>
              <a:off x="2220480" y="1287000"/>
              <a:ext cx="4452480" cy="1946160"/>
            </a:xfrm>
            <a:prstGeom prst="ellipse">
              <a:avLst/>
            </a:prstGeom>
            <a:gradFill rotWithShape="0">
              <a:gsLst>
                <a:gs pos="0">
                  <a:srgbClr val="1b753f"/>
                </a:gs>
                <a:gs pos="100000">
                  <a:srgbClr val="22945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8"/>
            <p:cNvSpPr/>
            <p:nvPr/>
          </p:nvSpPr>
          <p:spPr>
            <a:xfrm>
              <a:off x="2455920" y="1154880"/>
              <a:ext cx="3919320" cy="172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945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Прямоугольник 19"/>
          <p:cNvSpPr/>
          <p:nvPr/>
        </p:nvSpPr>
        <p:spPr>
          <a:xfrm>
            <a:off x="2286000" y="16430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НОВАЦ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введение, которое вносит новые элементы в среду внедрения и вызывает обновление в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0"/>
          <p:cNvSpPr/>
          <p:nvPr/>
        </p:nvSpPr>
        <p:spPr>
          <a:xfrm>
            <a:off x="1143000" y="3857760"/>
            <a:ext cx="221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зарубежных ученых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Кол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Комб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Масл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1"/>
          <p:cNvSpPr/>
          <p:nvPr/>
        </p:nvSpPr>
        <p:spPr>
          <a:xfrm>
            <a:off x="5643720" y="3687840"/>
            <a:ext cx="228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отечественных известные еще с 20-х годов русские уче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С.Выготский, Д.Б.Эльконин, В.В.Давыдов, Л.В.Зан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6720120" cy="571320"/>
          </a:xfrm>
          <a:prstGeom prst="rect">
            <a:avLst/>
          </a:prstGeom>
          <a:solidFill>
            <a:srgbClr val="add6ff"/>
          </a:solidFill>
          <a:ln w="9360">
            <a:solidFill>
              <a:srgbClr val="94e6b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Monotype Corsiva"/>
              </a:rPr>
              <a:t>Концепция СДП базируется на тезисах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0" y="1857240"/>
            <a:ext cx="714240" cy="665280"/>
            <a:chOff x="0" y="1857240"/>
            <a:chExt cx="714240" cy="665280"/>
          </a:xfrm>
        </p:grpSpPr>
        <p:sp>
          <p:nvSpPr>
            <p:cNvPr id="129" name="AutoShape 4"/>
            <p:cNvSpPr/>
            <p:nvPr/>
          </p:nvSpPr>
          <p:spPr>
            <a:xfrm>
              <a:off x="5760" y="1868400"/>
              <a:ext cx="708480" cy="654120"/>
            </a:xfrm>
            <a:prstGeom prst="hexagon">
              <a:avLst>
                <a:gd name="adj" fmla="val 27078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>
              <a:off x="0" y="1857240"/>
              <a:ext cx="708480" cy="654120"/>
            </a:xfrm>
            <a:prstGeom prst="hexagon">
              <a:avLst>
                <a:gd name="adj" fmla="val 27078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40680" y="1896840"/>
              <a:ext cx="622080" cy="574920"/>
            </a:xfrm>
            <a:prstGeom prst="hexagon">
              <a:avLst>
                <a:gd name="adj" fmla="val 27045"/>
                <a:gd name="vf" fmla="val 11547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7"/>
          <p:cNvGrpSpPr/>
          <p:nvPr/>
        </p:nvGrpSpPr>
        <p:grpSpPr>
          <a:xfrm>
            <a:off x="0" y="2928960"/>
            <a:ext cx="761760" cy="665280"/>
            <a:chOff x="0" y="2928960"/>
            <a:chExt cx="761760" cy="665280"/>
          </a:xfrm>
        </p:grpSpPr>
        <p:sp>
          <p:nvSpPr>
            <p:cNvPr id="133" name="AutoShape 8"/>
            <p:cNvSpPr/>
            <p:nvPr/>
          </p:nvSpPr>
          <p:spPr>
            <a:xfrm>
              <a:off x="6120" y="29401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9"/>
            <p:cNvSpPr/>
            <p:nvPr/>
          </p:nvSpPr>
          <p:spPr>
            <a:xfrm>
              <a:off x="0" y="29289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0"/>
            <p:cNvSpPr/>
            <p:nvPr/>
          </p:nvSpPr>
          <p:spPr>
            <a:xfrm>
              <a:off x="44280" y="296856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425"/>
                </a:gs>
                <a:gs pos="100000">
                  <a:srgbClr val="22945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Line 11"/>
          <p:cNvSpPr/>
          <p:nvPr/>
        </p:nvSpPr>
        <p:spPr>
          <a:xfrm>
            <a:off x="785880" y="2714760"/>
            <a:ext cx="8215200" cy="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429000" y="210024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785880" y="3475080"/>
            <a:ext cx="8215200" cy="4608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16360" y="3000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0" y="3857760"/>
            <a:ext cx="762120" cy="664920"/>
            <a:chOff x="0" y="3857760"/>
            <a:chExt cx="762120" cy="664920"/>
          </a:xfrm>
        </p:grpSpPr>
        <p:sp>
          <p:nvSpPr>
            <p:cNvPr id="141" name="AutoShape 18"/>
            <p:cNvSpPr/>
            <p:nvPr/>
          </p:nvSpPr>
          <p:spPr>
            <a:xfrm>
              <a:off x="6120" y="3868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9"/>
            <p:cNvSpPr/>
            <p:nvPr/>
          </p:nvSpPr>
          <p:spPr>
            <a:xfrm>
              <a:off x="0" y="3857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0"/>
            <p:cNvSpPr/>
            <p:nvPr/>
          </p:nvSpPr>
          <p:spPr>
            <a:xfrm>
              <a:off x="44280" y="3897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25"/>
          <p:cNvSpPr/>
          <p:nvPr/>
        </p:nvSpPr>
        <p:spPr>
          <a:xfrm>
            <a:off x="785880" y="4429080"/>
            <a:ext cx="8215200" cy="4608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3429000" y="390672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1636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2"/>
          <p:cNvSpPr/>
          <p:nvPr/>
        </p:nvSpPr>
        <p:spPr>
          <a:xfrm>
            <a:off x="214200" y="2000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3"/>
          <p:cNvSpPr/>
          <p:nvPr/>
        </p:nvSpPr>
        <p:spPr>
          <a:xfrm>
            <a:off x="785880" y="157176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кружающий мир – объект познания учащихся, имеет системную организацию. Любые объекты его могут быть представлены как системы. Вне систем они существовать не мог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4"/>
          <p:cNvSpPr/>
          <p:nvPr/>
        </p:nvSpPr>
        <p:spPr>
          <a:xfrm>
            <a:off x="928800" y="27860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витие систем подчиняется законам диалектики, она является основой и системных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5"/>
          <p:cNvSpPr/>
          <p:nvPr/>
        </p:nvSpPr>
        <p:spPr>
          <a:xfrm>
            <a:off x="1000080" y="3714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менение учащимися системных исследований возможно только на основе их собственной 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7215120" cy="8827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обственная  УД школьников – важная составляющая СДП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142920" y="1071720"/>
            <a:ext cx="8786520" cy="5357160"/>
            <a:chOff x="142920" y="1071720"/>
            <a:chExt cx="8786520" cy="5357160"/>
          </a:xfrm>
        </p:grpSpPr>
        <p:sp>
          <p:nvSpPr>
            <p:cNvPr id="154" name="Text Box 6"/>
            <p:cNvSpPr/>
            <p:nvPr/>
          </p:nvSpPr>
          <p:spPr>
            <a:xfrm>
              <a:off x="4149720" y="2936880"/>
              <a:ext cx="1908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4161960" y="3538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4161960" y="4139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3005280" y="2419200"/>
              <a:ext cx="509400" cy="23216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"/>
            <p:cNvSpPr/>
            <p:nvPr/>
          </p:nvSpPr>
          <p:spPr>
            <a:xfrm>
              <a:off x="142920" y="1818000"/>
              <a:ext cx="2716920" cy="3522600"/>
            </a:xfrm>
            <a:custGeom>
              <a:avLst/>
              <a:gdLst>
                <a:gd name="textAreaLeft" fmla="*/ 132480 w 2716920"/>
                <a:gd name="textAreaRight" fmla="*/ 2584440 w 2716920"/>
                <a:gd name="textAreaTop" fmla="*/ 132480 h 3522600"/>
                <a:gd name="textAreaBottom" fmla="*/ 3390120 h 3522600"/>
              </a:gdLst>
              <a:ahLst/>
              <a:rect l="textAreaLeft" t="textAreaTop" r="textAreaRight" b="textAreaBottom"/>
              <a:pathLst>
                <a:path w="21600" h="28004">
                  <a:moveTo>
                    <a:pt x="3600" y="0"/>
                  </a:moveTo>
                  <a:arcTo wR="3600" hR="3600" stAng="16200000" swAng="-5400000"/>
                  <a:lnTo>
                    <a:pt x="0" y="24404"/>
                  </a:lnTo>
                  <a:arcTo wR="3600" hR="3600" stAng="10800000" swAng="-5400000"/>
                  <a:lnTo>
                    <a:pt x="18000" y="28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142920" y="2075760"/>
              <a:ext cx="264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1d3a"/>
                  </a:solidFill>
                  <a:latin typeface="Verdana"/>
                </a:rPr>
                <a:t>Какова деятельность – такова и лич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2"/>
            <p:cNvSpPr/>
            <p:nvPr/>
          </p:nvSpPr>
          <p:spPr>
            <a:xfrm>
              <a:off x="6061320" y="1818000"/>
              <a:ext cx="2868120" cy="3522600"/>
            </a:xfrm>
            <a:custGeom>
              <a:avLst/>
              <a:gdLst>
                <a:gd name="textAreaLeft" fmla="*/ 139680 w 2868120"/>
                <a:gd name="textAreaRight" fmla="*/ 2728440 w 2868120"/>
                <a:gd name="textAreaTop" fmla="*/ 139680 h 3522600"/>
                <a:gd name="textAreaBottom" fmla="*/ 3382920 h 3522600"/>
              </a:gdLst>
              <a:ahLst/>
              <a:rect l="textAreaLeft" t="textAreaTop" r="textAreaRight" b="textAreaBottom"/>
              <a:pathLst>
                <a:path w="21600" h="26528">
                  <a:moveTo>
                    <a:pt x="3600" y="0"/>
                  </a:moveTo>
                  <a:arcTo wR="3600" hR="3600" stAng="16200000" swAng="-5400000"/>
                  <a:lnTo>
                    <a:pt x="0" y="22928"/>
                  </a:lnTo>
                  <a:arcTo wR="3600" hR="3600" stAng="10800000" swAng="-5400000"/>
                  <a:lnTo>
                    <a:pt x="18000" y="265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197760" y="2612880"/>
              <a:ext cx="272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1d3a"/>
                  </a:solidFill>
                  <a:latin typeface="Verdana"/>
                </a:rPr>
                <a:t>Вне деятельности нет лич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4"/>
            <p:cNvSpPr/>
            <p:nvPr/>
          </p:nvSpPr>
          <p:spPr>
            <a:xfrm>
              <a:off x="5409720" y="2419200"/>
              <a:ext cx="506160" cy="23216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5"/>
            <p:cNvSpPr/>
            <p:nvPr/>
          </p:nvSpPr>
          <p:spPr>
            <a:xfrm>
              <a:off x="2929320" y="1071720"/>
              <a:ext cx="2910240" cy="155520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93f16"/>
                </a:gs>
                <a:gs pos="50000">
                  <a:srgbClr val="e3892f"/>
                </a:gs>
                <a:gs pos="100000">
                  <a:srgbClr val="693f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6"/>
            <p:cNvSpPr/>
            <p:nvPr/>
          </p:nvSpPr>
          <p:spPr>
            <a:xfrm>
              <a:off x="3628080" y="1989720"/>
              <a:ext cx="1676880" cy="6015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3097440" y="1764000"/>
              <a:ext cx="26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8"/>
            <p:cNvSpPr/>
            <p:nvPr/>
          </p:nvSpPr>
          <p:spPr>
            <a:xfrm>
              <a:off x="2874960" y="4902480"/>
              <a:ext cx="3101400" cy="15264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3318840" y="5603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лич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0"/>
            <p:cNvSpPr/>
            <p:nvPr/>
          </p:nvSpPr>
          <p:spPr>
            <a:xfrm>
              <a:off x="3607200" y="4653360"/>
              <a:ext cx="1676520" cy="5958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Прямоугольник 22"/>
          <p:cNvSpPr/>
          <p:nvPr/>
        </p:nvSpPr>
        <p:spPr>
          <a:xfrm>
            <a:off x="3071880" y="2643120"/>
            <a:ext cx="278604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Д становится источником внутреннего развития школьника, формирования его творческих способностей и личностных кач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20120" cy="8827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О с позиции концепции СДП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928520"/>
            <a:ext cx="7788240" cy="435780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развивающим можно назвать обуч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в котором у учащегося – субъекта УД в зоне ближайшего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 базе обыденного мышления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интеллектуальных способностей формиру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еоретическое мышлен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ворческие способ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5"/>
          <p:cNvSpPr/>
          <p:nvPr/>
        </p:nvSpPr>
        <p:spPr>
          <a:xfrm>
            <a:off x="1214280" y="2428920"/>
            <a:ext cx="6357960" cy="1440"/>
          </a:xfrm>
          <a:prstGeom prst="line">
            <a:avLst/>
          </a:prstGeom>
          <a:ln w="9360">
            <a:solidFill>
              <a:srgbClr val="1e93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ижний колонтитул 3"/>
          <p:cNvSpPr/>
          <p:nvPr/>
        </p:nvSpPr>
        <p:spPr>
          <a:xfrm>
            <a:off x="7315200" y="6461280"/>
            <a:ext cx="1752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6576840" cy="9540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равнительная таблица успешности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О – ТО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14200" y="1357200"/>
          <a:ext cx="8786880" cy="5303880"/>
        </p:xfrm>
        <a:graphic>
          <a:graphicData uri="http://schemas.openxmlformats.org/drawingml/2006/table">
            <a:tbl>
              <a:tblPr/>
              <a:tblGrid>
                <a:gridCol w="500040"/>
                <a:gridCol w="4071960"/>
                <a:gridCol w="4214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диционн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нов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юще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ируется на принципе доступ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рается на зону ближайше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йся выступает в роли объ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йся действует как субъект собственной 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ие на усвоение определенной суммы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елено на усвоение способов познания как конечной цели 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т обыденное мышление, эмпир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ет теоретическое мышление и теорет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ая конкретно-практические задачи, учащиеся усваивают частные спос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вый план выступают учебные задачи, решая их учащиеся, усваивают общие способы умствен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езультате формируется человек, способный к исполнитель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уется личность, способная к самостоятельной твор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6648480" cy="8827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новные виды УУД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1523520" y="2286000"/>
            <a:ext cx="6334200" cy="3499920"/>
            <a:chOff x="1523520" y="2286000"/>
            <a:chExt cx="6334200" cy="3499920"/>
          </a:xfrm>
        </p:grpSpPr>
        <p:sp>
          <p:nvSpPr>
            <p:cNvPr id="178" name="Freeform 4"/>
            <p:cNvSpPr/>
            <p:nvPr/>
          </p:nvSpPr>
          <p:spPr>
            <a:xfrm>
              <a:off x="7323120" y="2286000"/>
              <a:ext cx="519480" cy="928080"/>
            </a:xfrm>
            <a:custGeom>
              <a:avLst/>
              <a:gdLst>
                <a:gd name="textAreaLeft" fmla="*/ 0 w 519480"/>
                <a:gd name="textAreaRight" fmla="*/ 519840 w 519480"/>
                <a:gd name="textAreaTop" fmla="*/ 0 h 928080"/>
                <a:gd name="textAreaBottom" fmla="*/ 928440 h 92808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"/>
            <p:cNvSpPr/>
            <p:nvPr/>
          </p:nvSpPr>
          <p:spPr>
            <a:xfrm>
              <a:off x="4832640" y="2286000"/>
              <a:ext cx="3025080" cy="571320"/>
            </a:xfrm>
            <a:custGeom>
              <a:avLst/>
              <a:gdLst>
                <a:gd name="textAreaLeft" fmla="*/ 0 w 3025080"/>
                <a:gd name="textAreaRight" fmla="*/ 3025440 w 3025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6799680" y="3126240"/>
              <a:ext cx="519480" cy="841320"/>
            </a:xfrm>
            <a:custGeom>
              <a:avLst/>
              <a:gdLst>
                <a:gd name="textAreaLeft" fmla="*/ 0 w 519480"/>
                <a:gd name="textAreaRight" fmla="*/ 519840 w 51948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"/>
            <p:cNvSpPr/>
            <p:nvPr/>
          </p:nvSpPr>
          <p:spPr>
            <a:xfrm>
              <a:off x="4083480" y="3126240"/>
              <a:ext cx="3241800" cy="540360"/>
            </a:xfrm>
            <a:custGeom>
              <a:avLst/>
              <a:gdLst>
                <a:gd name="textAreaLeft" fmla="*/ 0 w 3241800"/>
                <a:gd name="textAreaRight" fmla="*/ 3242160 w 324180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"/>
            <p:cNvSpPr/>
            <p:nvPr/>
          </p:nvSpPr>
          <p:spPr>
            <a:xfrm>
              <a:off x="6275520" y="3958560"/>
              <a:ext cx="517320" cy="845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845280"/>
                <a:gd name="textAreaBottom" fmla="*/ 845640 h 84528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5754600" y="4791600"/>
              <a:ext cx="520560" cy="9943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94320"/>
                <a:gd name="textAreaBottom" fmla="*/ 994680 h 99432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2593800" y="4796640"/>
              <a:ext cx="3692160" cy="632520"/>
            </a:xfrm>
            <a:custGeom>
              <a:avLst/>
              <a:gdLst>
                <a:gd name="textAreaLeft" fmla="*/ 0 w 3692160"/>
                <a:gd name="textAreaRight" fmla="*/ 3692160 w 3692160"/>
                <a:gd name="textAreaTop" fmla="*/ 0 h 632520"/>
                <a:gd name="textAreaBottom" fmla="*/ 632880 h 63252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1"/>
            <p:cNvSpPr/>
            <p:nvPr/>
          </p:nvSpPr>
          <p:spPr>
            <a:xfrm flipH="1">
              <a:off x="1523880" y="5632200"/>
              <a:ext cx="1069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2"/>
            <p:cNvSpPr/>
            <p:nvPr/>
          </p:nvSpPr>
          <p:spPr>
            <a:xfrm flipH="1">
              <a:off x="1523880" y="4791600"/>
              <a:ext cx="1818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3"/>
            <p:cNvSpPr/>
            <p:nvPr/>
          </p:nvSpPr>
          <p:spPr>
            <a:xfrm flipH="1">
              <a:off x="1523520" y="3962160"/>
              <a:ext cx="25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4"/>
            <p:cNvSpPr/>
            <p:nvPr/>
          </p:nvSpPr>
          <p:spPr>
            <a:xfrm flipH="1">
              <a:off x="1523880" y="3133800"/>
              <a:ext cx="3314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5"/>
            <p:cNvSpPr/>
            <p:nvPr/>
          </p:nvSpPr>
          <p:spPr>
            <a:xfrm flipH="1">
              <a:off x="1523520" y="2291760"/>
              <a:ext cx="4063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1685160" y="2286000"/>
              <a:ext cx="0" cy="87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1685160" y="315756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1685160" y="3974040"/>
              <a:ext cx="0" cy="81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9"/>
            <p:cNvSpPr/>
            <p:nvPr/>
          </p:nvSpPr>
          <p:spPr>
            <a:xfrm>
              <a:off x="1685160" y="4791600"/>
              <a:ext cx="0" cy="81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1"/>
            <p:cNvSpPr/>
            <p:nvPr/>
          </p:nvSpPr>
          <p:spPr>
            <a:xfrm>
              <a:off x="4785840" y="2827440"/>
              <a:ext cx="2643120" cy="3038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ммуникативные УУД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2"/>
            <p:cNvSpPr/>
            <p:nvPr/>
          </p:nvSpPr>
          <p:spPr>
            <a:xfrm>
              <a:off x="4084560" y="3666960"/>
              <a:ext cx="2720880" cy="2973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знавательные УУД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3"/>
            <p:cNvSpPr/>
            <p:nvPr/>
          </p:nvSpPr>
          <p:spPr>
            <a:xfrm>
              <a:off x="3339720" y="3958560"/>
              <a:ext cx="3458880" cy="545040"/>
            </a:xfrm>
            <a:custGeom>
              <a:avLst/>
              <a:gdLst>
                <a:gd name="textAreaLeft" fmla="*/ 0 w 3458880"/>
                <a:gd name="textAreaRight" fmla="*/ 3459240 w 3458880"/>
                <a:gd name="textAreaTop" fmla="*/ 0 h 545040"/>
                <a:gd name="textAreaBottom" fmla="*/ 545400 h 545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4"/>
            <p:cNvSpPr/>
            <p:nvPr/>
          </p:nvSpPr>
          <p:spPr>
            <a:xfrm>
              <a:off x="3341880" y="4502520"/>
              <a:ext cx="2944800" cy="29736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гулятивные УУД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5"/>
            <p:cNvSpPr/>
            <p:nvPr/>
          </p:nvSpPr>
          <p:spPr>
            <a:xfrm>
              <a:off x="2592360" y="5429520"/>
              <a:ext cx="3168720" cy="3564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6"/>
            <p:cNvSpPr/>
            <p:nvPr/>
          </p:nvSpPr>
          <p:spPr>
            <a:xfrm>
              <a:off x="2142360" y="2571840"/>
              <a:ext cx="18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7"/>
            <p:cNvSpPr/>
            <p:nvPr/>
          </p:nvSpPr>
          <p:spPr>
            <a:xfrm>
              <a:off x="2152800" y="3429000"/>
              <a:ext cx="22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8"/>
            <p:cNvSpPr/>
            <p:nvPr/>
          </p:nvSpPr>
          <p:spPr>
            <a:xfrm>
              <a:off x="2142360" y="4286520"/>
              <a:ext cx="18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9"/>
            <p:cNvSpPr/>
            <p:nvPr/>
          </p:nvSpPr>
          <p:spPr>
            <a:xfrm>
              <a:off x="2256840" y="5071680"/>
              <a:ext cx="18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Прямоугольник 30"/>
          <p:cNvSpPr/>
          <p:nvPr/>
        </p:nvSpPr>
        <p:spPr>
          <a:xfrm>
            <a:off x="3071880" y="535788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 У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2"/>
          <p:cNvSpPr/>
          <p:nvPr/>
        </p:nvSpPr>
        <p:spPr>
          <a:xfrm>
            <a:off x="285840" y="5572080"/>
            <a:ext cx="221436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смысло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3"/>
          <p:cNvSpPr/>
          <p:nvPr/>
        </p:nvSpPr>
        <p:spPr>
          <a:xfrm>
            <a:off x="-201960" y="6000840"/>
            <a:ext cx="4348800" cy="3682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нравственно-этическая ори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трелка углом 34"/>
          <p:cNvSpPr/>
          <p:nvPr/>
        </p:nvSpPr>
        <p:spPr>
          <a:xfrm flipH="1">
            <a:off x="1428840" y="5000760"/>
            <a:ext cx="1643040" cy="357120"/>
          </a:xfrm>
          <a:custGeom>
            <a:avLst/>
            <a:gdLst/>
            <a:ahLst/>
            <a:rect l="l" t="t" r="r" b="b"/>
            <a:pathLst>
              <a:path w="1643063" h="357188">
                <a:moveTo>
                  <a:pt x="0" y="357188"/>
                </a:moveTo>
                <a:lnTo>
                  <a:pt x="0" y="206521"/>
                </a:lnTo>
                <a:lnTo>
                  <a:pt x="0" y="206521"/>
                </a:lnTo>
                <a:arcTo wR="156270" hR="156270" stAng="10800000" swAng="5400000"/>
                <a:lnTo>
                  <a:pt x="1553766" y="50251"/>
                </a:lnTo>
                <a:lnTo>
                  <a:pt x="1553766" y="0"/>
                </a:lnTo>
                <a:lnTo>
                  <a:pt x="1643063" y="89297"/>
                </a:lnTo>
                <a:lnTo>
                  <a:pt x="1553766" y="178594"/>
                </a:lnTo>
                <a:lnTo>
                  <a:pt x="1553766" y="128343"/>
                </a:lnTo>
                <a:lnTo>
                  <a:pt x="156270" y="128343"/>
                </a:lnTo>
                <a:lnTo>
                  <a:pt x="156270" y="128343"/>
                </a:lnTo>
                <a:arcTo wR="78178" hR="78178" stAng="-5400000" swAng="-5400000"/>
                <a:lnTo>
                  <a:pt x="78092" y="35718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56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5"/>
          <p:cNvSpPr/>
          <p:nvPr/>
        </p:nvSpPr>
        <p:spPr>
          <a:xfrm>
            <a:off x="7539840" y="2500200"/>
            <a:ext cx="180540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6"/>
          <p:cNvSpPr/>
          <p:nvPr/>
        </p:nvSpPr>
        <p:spPr>
          <a:xfrm>
            <a:off x="7596360" y="2928960"/>
            <a:ext cx="173520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7"/>
          <p:cNvSpPr/>
          <p:nvPr/>
        </p:nvSpPr>
        <p:spPr>
          <a:xfrm>
            <a:off x="7296120" y="3357720"/>
            <a:ext cx="207648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8"/>
          <p:cNvSpPr/>
          <p:nvPr/>
        </p:nvSpPr>
        <p:spPr>
          <a:xfrm>
            <a:off x="7804800" y="3714840"/>
            <a:ext cx="126108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9"/>
          <p:cNvSpPr/>
          <p:nvPr/>
        </p:nvSpPr>
        <p:spPr>
          <a:xfrm>
            <a:off x="7670880" y="4143240"/>
            <a:ext cx="136188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корр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40"/>
          <p:cNvSpPr/>
          <p:nvPr/>
        </p:nvSpPr>
        <p:spPr>
          <a:xfrm>
            <a:off x="8057520" y="4572000"/>
            <a:ext cx="93816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1"/>
          <p:cNvSpPr/>
          <p:nvPr/>
        </p:nvSpPr>
        <p:spPr>
          <a:xfrm>
            <a:off x="7265880" y="5000760"/>
            <a:ext cx="1799280" cy="368280"/>
          </a:xfrm>
          <a:prstGeom prst="rect">
            <a:avLst/>
          </a:prstGeom>
          <a:noFill/>
          <a:ln w="9360">
            <a:solidFill>
              <a:srgbClr val="eeb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само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46"/>
          <p:cNvSpPr/>
          <p:nvPr/>
        </p:nvSpPr>
        <p:spPr>
          <a:xfrm>
            <a:off x="736560" y="2357280"/>
            <a:ext cx="244836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общеучебные уни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7"/>
          <p:cNvSpPr/>
          <p:nvPr/>
        </p:nvSpPr>
        <p:spPr>
          <a:xfrm>
            <a:off x="928800" y="2786040"/>
            <a:ext cx="2714400" cy="6426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знаково-символические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8"/>
          <p:cNvSpPr/>
          <p:nvPr/>
        </p:nvSpPr>
        <p:spPr>
          <a:xfrm>
            <a:off x="775080" y="3214800"/>
            <a:ext cx="223956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логические унив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9"/>
          <p:cNvSpPr/>
          <p:nvPr/>
        </p:nvSpPr>
        <p:spPr>
          <a:xfrm>
            <a:off x="501840" y="3643200"/>
            <a:ext cx="384300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постановка и решени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1"/>
          <p:cNvSpPr/>
          <p:nvPr/>
        </p:nvSpPr>
        <p:spPr>
          <a:xfrm>
            <a:off x="285840" y="5143680"/>
            <a:ext cx="168408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углом 53"/>
          <p:cNvSpPr/>
          <p:nvPr/>
        </p:nvSpPr>
        <p:spPr>
          <a:xfrm flipH="1">
            <a:off x="3143160" y="3143160"/>
            <a:ext cx="1571760" cy="428760"/>
          </a:xfrm>
          <a:custGeom>
            <a:avLst/>
            <a:gdLst/>
            <a:ahLst/>
            <a:rect l="l" t="t" r="r" b="b"/>
            <a:pathLst>
              <a:path w="1571625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1464469" y="53578"/>
                </a:lnTo>
                <a:lnTo>
                  <a:pt x="1464469" y="0"/>
                </a:lnTo>
                <a:lnTo>
                  <a:pt x="1571625" y="107156"/>
                </a:lnTo>
                <a:lnTo>
                  <a:pt x="1464469" y="214313"/>
                </a:lnTo>
                <a:lnTo>
                  <a:pt x="1464469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углом 54"/>
          <p:cNvSpPr/>
          <p:nvPr/>
        </p:nvSpPr>
        <p:spPr>
          <a:xfrm flipV="1" rot="20880000">
            <a:off x="6114600" y="4444200"/>
            <a:ext cx="1843200" cy="610920"/>
          </a:xfrm>
          <a:custGeom>
            <a:avLst/>
            <a:gdLst/>
            <a:ahLst/>
            <a:rect l="l" t="t" r="r" b="b"/>
            <a:pathLst>
              <a:path w="1843088" h="611188">
                <a:moveTo>
                  <a:pt x="0" y="611188"/>
                </a:moveTo>
                <a:lnTo>
                  <a:pt x="0" y="343671"/>
                </a:lnTo>
                <a:lnTo>
                  <a:pt x="0" y="343671"/>
                </a:lnTo>
                <a:arcTo wR="267395" hR="267395" stAng="10800000" swAng="5400000"/>
                <a:lnTo>
                  <a:pt x="1690291" y="76276"/>
                </a:lnTo>
                <a:lnTo>
                  <a:pt x="1690291" y="0"/>
                </a:lnTo>
                <a:lnTo>
                  <a:pt x="1843088" y="152675"/>
                </a:lnTo>
                <a:lnTo>
                  <a:pt x="1690291" y="305350"/>
                </a:lnTo>
                <a:lnTo>
                  <a:pt x="1690291" y="229073"/>
                </a:lnTo>
                <a:lnTo>
                  <a:pt x="267395" y="229073"/>
                </a:lnTo>
                <a:lnTo>
                  <a:pt x="267395" y="229073"/>
                </a:lnTo>
                <a:arcTo wR="114598" hR="114598" stAng="-5400000" swAng="-5400000"/>
                <a:lnTo>
                  <a:pt x="152797" y="611188"/>
                </a:lnTo>
                <a:close/>
              </a:path>
            </a:pathLst>
          </a:custGeom>
          <a:solidFill>
            <a:srgbClr val="eeb882"/>
          </a:solidFill>
          <a:ln w="25560">
            <a:solidFill>
              <a:srgbClr val="794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трелка углом 55"/>
          <p:cNvSpPr/>
          <p:nvPr/>
        </p:nvSpPr>
        <p:spPr>
          <a:xfrm flipH="1">
            <a:off x="4500000" y="2000160"/>
            <a:ext cx="2571480" cy="428760"/>
          </a:xfrm>
          <a:custGeom>
            <a:avLst/>
            <a:gdLst/>
            <a:ahLst/>
            <a:rect l="l" t="t" r="r" b="b"/>
            <a:pathLst>
              <a:path w="2571750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2464594" y="53578"/>
                </a:lnTo>
                <a:lnTo>
                  <a:pt x="2464594" y="0"/>
                </a:lnTo>
                <a:lnTo>
                  <a:pt x="2571750" y="107156"/>
                </a:lnTo>
                <a:lnTo>
                  <a:pt x="2464594" y="214313"/>
                </a:lnTo>
                <a:lnTo>
                  <a:pt x="2464594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5fda91"/>
          </a:solidFill>
          <a:ln w="25560">
            <a:solidFill>
              <a:srgbClr val="166b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56"/>
          <p:cNvSpPr/>
          <p:nvPr/>
        </p:nvSpPr>
        <p:spPr>
          <a:xfrm>
            <a:off x="2629800" y="1928880"/>
            <a:ext cx="211788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вопросы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6929280" cy="64296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ритерии оценки сформированности УУД: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498600" y="1499040"/>
            <a:ext cx="8687880" cy="4815720"/>
            <a:chOff x="498600" y="1499040"/>
            <a:chExt cx="8687880" cy="4815720"/>
          </a:xfrm>
        </p:grpSpPr>
        <p:sp>
          <p:nvSpPr>
            <p:cNvPr id="225" name="Freeform 4"/>
            <p:cNvSpPr/>
            <p:nvPr/>
          </p:nvSpPr>
          <p:spPr>
            <a:xfrm rot="20241600">
              <a:off x="1812960" y="2633040"/>
              <a:ext cx="6403320" cy="2547000"/>
            </a:xfrm>
            <a:custGeom>
              <a:avLst/>
              <a:gdLst>
                <a:gd name="textAreaLeft" fmla="*/ 0 w 6403320"/>
                <a:gd name="textAreaRight" fmla="*/ 6403680 w 6403320"/>
                <a:gd name="textAreaTop" fmla="*/ 0 h 2547000"/>
                <a:gd name="textAreaBottom" fmla="*/ 2547360 h 254700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 rot="20056200">
              <a:off x="7612200" y="3693960"/>
              <a:ext cx="1531080" cy="5482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 rot="20056200">
              <a:off x="2647080" y="4591440"/>
              <a:ext cx="2343600" cy="1224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1"/>
            <p:cNvSpPr/>
            <p:nvPr/>
          </p:nvSpPr>
          <p:spPr>
            <a:xfrm>
              <a:off x="498600" y="2785320"/>
              <a:ext cx="3357720" cy="3142080"/>
            </a:xfrm>
            <a:prstGeom prst="ellipse">
              <a:avLst/>
            </a:prstGeom>
            <a:gradFill rotWithShape="0">
              <a:gsLst>
                <a:gs pos="0">
                  <a:srgbClr val="229450"/>
                </a:gs>
                <a:gs pos="100000">
                  <a:srgbClr val="0b2e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5784480" y="1643040"/>
              <a:ext cx="3000600" cy="271512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5"/>
            <p:cNvSpPr/>
            <p:nvPr/>
          </p:nvSpPr>
          <p:spPr>
            <a:xfrm>
              <a:off x="500400" y="3285720"/>
              <a:ext cx="3140640" cy="21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оответств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возрастно-психологически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нормативны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требования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6"/>
            <p:cNvSpPr/>
            <p:nvPr/>
          </p:nvSpPr>
          <p:spPr>
            <a:xfrm>
              <a:off x="4683600" y="2356560"/>
              <a:ext cx="1850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7"/>
            <p:cNvSpPr/>
            <p:nvPr/>
          </p:nvSpPr>
          <p:spPr>
            <a:xfrm>
              <a:off x="6291360" y="1928160"/>
              <a:ext cx="20811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оответств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войст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универсаль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действ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зара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заданн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требовани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5752800" y="4709880"/>
              <a:ext cx="1846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9"/>
            <p:cNvSpPr/>
            <p:nvPr/>
          </p:nvSpPr>
          <p:spPr>
            <a:xfrm>
              <a:off x="3115440" y="5275440"/>
              <a:ext cx="1850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3986280" y="3622680"/>
              <a:ext cx="24217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6103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cc"/>
                </a:solidFill>
                <a:latin typeface="Arial"/>
              </a:rPr>
              <a:t>Практическая работ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1914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Упраж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Интересно (смотрю) соревнования плов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Летом мы решили (хожу) в пох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ора (делаю)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Брат помогал мне (решаю) за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Надо (вскипячу) воду в чай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Товарищ обещал (принесу) мне интерес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ни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ниги надо (береч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6720120" cy="9540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Сравнительная таблица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«Критерии анализа уроков РО и ТО»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42920" y="1214280"/>
          <a:ext cx="8858160" cy="5094360"/>
        </p:xfrm>
        <a:graphic>
          <a:graphicData uri="http://schemas.openxmlformats.org/drawingml/2006/table">
            <a:tbl>
              <a:tblPr/>
              <a:tblGrid>
                <a:gridCol w="4432320"/>
                <a:gridCol w="442584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ОС н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дигма ЗУН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Цели и задачи задаются с тенденцией передачи функции от учителя к учени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урока задаются только учителем без целеполагания у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читель систематически обучает детей осуществлять рефлексивное 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не обучает детей рефлексии, сам не реализует рефлексивную функцию в обуч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 уроке используются разнообразные формы, методы, приемы обучения, повышающие степень активности учащихся в учеб. процес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урока однообразные, не вызывающие субъективную позицию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Учитель владеет технологией диалога, обучает учащихся ставить и адресовать вопрос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логовые формы на уроке не используются (или используются неэффектив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читель эффективно (адекватно цели урока) сочетает репродуктивную и проблемную формы обучения, учит детей работать по правилу и творчес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реализует преимущественно репродуктивную форму обучения, не умеет ее сочетать с проблемной (не владеет методикой постановки и решения пробле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6720120" cy="9540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Сравнительная таблица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«Критерии анализа уроков РО и ТО»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42920" y="1285920"/>
          <a:ext cx="8858160" cy="4699080"/>
        </p:xfrm>
        <a:graphic>
          <a:graphicData uri="http://schemas.openxmlformats.org/drawingml/2006/table">
            <a:tbl>
              <a:tblPr/>
              <a:tblGrid>
                <a:gridCol w="4432320"/>
                <a:gridCol w="442584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дигма З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На уроке задаются задачи и четкие критерии самоконтроля и самооцен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и оценку осуществляет сам 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Учитель добивается осмысления учебного материала всеми учащимися, используя для этого специальные при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не использует специальных приемов осмысления учебн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Учитель стремится оценивать реальное продвижение каждого ученика, поощряет и поддерживает минимальные успех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ценке знаний ученика ориентируется только на общие критерии, не учитывая минимальных индивидуальных продвижений, не поощряя 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Учитель специально планирует коммуникативные задачи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ые ситуации специально не планируются, возникают и реализуются стихий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42920" y="785880"/>
            <a:ext cx="8786880" cy="5877000"/>
          </a:xfrm>
          <a:prstGeom prst="rect">
            <a:avLst/>
          </a:prstGeom>
          <a:solidFill>
            <a:srgbClr val="b9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72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«…не давать образцов, ставить ребенка в ситуацию, где его привычные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пособы действия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с очевидностью непригодны и мотивировать поиск существенных особенностей новой ситуации, в которой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до действовать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– вот основания нетрадиционной педагогики, основанной на психологической теории учебной деятельности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72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. А. Цукерман, доктор псих. на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6720120" cy="9540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Сравнительная таблица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«Критерии анализа уроков РО и ТО»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2920" y="1905120"/>
          <a:ext cx="8858160" cy="3510000"/>
        </p:xfrm>
        <a:graphic>
          <a:graphicData uri="http://schemas.openxmlformats.org/drawingml/2006/table">
            <a:tbl>
              <a:tblPr/>
              <a:tblGrid>
                <a:gridCol w="4432320"/>
                <a:gridCol w="4425840"/>
              </a:tblGrid>
              <a:tr h="48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дигма З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Учитель принимает, поощряет, выражаемую учеником, собственную позицию, иное мнение, обучает корректным формам их выра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не склонен принимать другое решение, не поддерживает стремление учеников к спору, диску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Стиль, тон отношений, задаваемый на уроке, создают атмосферу сотрудничества, сотворчества, психологического комф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отношений, атмосфера урока подавляют возможности совместной продуктив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На уроке осуществляется глубокое личностное воздей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ое воздействие не реализу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6648480" cy="5713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к научить учиться?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229450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6572160" y="3786120"/>
            <a:ext cx="166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Д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4"/>
          <p:cNvGrpSpPr/>
          <p:nvPr/>
        </p:nvGrpSpPr>
        <p:grpSpPr>
          <a:xfrm>
            <a:off x="659520" y="1285920"/>
            <a:ext cx="4401360" cy="4181400"/>
            <a:chOff x="659520" y="1285920"/>
            <a:chExt cx="4401360" cy="4181400"/>
          </a:xfrm>
        </p:grpSpPr>
        <p:sp>
          <p:nvSpPr>
            <p:cNvPr id="248" name="Oval 35"/>
            <p:cNvSpPr/>
            <p:nvPr/>
          </p:nvSpPr>
          <p:spPr>
            <a:xfrm rot="20876400">
              <a:off x="3305160" y="4657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6"/>
            <p:cNvSpPr/>
            <p:nvPr/>
          </p:nvSpPr>
          <p:spPr>
            <a:xfrm>
              <a:off x="3236760" y="3438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7"/>
            <p:cNvSpPr/>
            <p:nvPr/>
          </p:nvSpPr>
          <p:spPr>
            <a:xfrm>
              <a:off x="3257640" y="3448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8"/>
            <p:cNvSpPr/>
            <p:nvPr/>
          </p:nvSpPr>
          <p:spPr>
            <a:xfrm>
              <a:off x="3274920" y="3463920"/>
              <a:ext cx="1785960" cy="1727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9"/>
            <p:cNvSpPr/>
            <p:nvPr/>
          </p:nvSpPr>
          <p:spPr>
            <a:xfrm>
              <a:off x="3367080" y="3508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40"/>
            <p:cNvSpPr/>
            <p:nvPr/>
          </p:nvSpPr>
          <p:spPr>
            <a:xfrm>
              <a:off x="3181320" y="3762360"/>
              <a:ext cx="1841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Monotype Corsiva"/>
                </a:rPr>
                <a:t>развит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Monotype Corsiva"/>
                </a:rPr>
                <a:t>лич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1"/>
            <p:cNvSpPr/>
            <p:nvPr/>
          </p:nvSpPr>
          <p:spPr>
            <a:xfrm rot="20826600">
              <a:off x="1461960" y="4047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42"/>
            <p:cNvGrpSpPr/>
            <p:nvPr/>
          </p:nvGrpSpPr>
          <p:grpSpPr>
            <a:xfrm>
              <a:off x="659520" y="2930400"/>
              <a:ext cx="2163600" cy="1857240"/>
              <a:chOff x="659520" y="2930400"/>
              <a:chExt cx="2163600" cy="1857240"/>
            </a:xfrm>
          </p:grpSpPr>
          <p:sp>
            <p:nvSpPr>
              <p:cNvPr id="256" name="Oval 43"/>
              <p:cNvSpPr/>
              <p:nvPr/>
            </p:nvSpPr>
            <p:spPr>
              <a:xfrm>
                <a:off x="1388880" y="3053880"/>
                <a:ext cx="137376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4"/>
              <p:cNvSpPr/>
              <p:nvPr/>
            </p:nvSpPr>
            <p:spPr>
              <a:xfrm>
                <a:off x="1406880" y="3062520"/>
                <a:ext cx="133956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5"/>
              <p:cNvSpPr/>
              <p:nvPr/>
            </p:nvSpPr>
            <p:spPr>
              <a:xfrm>
                <a:off x="928800" y="2930400"/>
                <a:ext cx="1856880" cy="1857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46"/>
              <p:cNvSpPr/>
              <p:nvPr/>
            </p:nvSpPr>
            <p:spPr>
              <a:xfrm>
                <a:off x="1491840" y="3112920"/>
                <a:ext cx="1133640" cy="106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47"/>
              <p:cNvSpPr/>
              <p:nvPr/>
            </p:nvSpPr>
            <p:spPr>
              <a:xfrm>
                <a:off x="659520" y="3429360"/>
                <a:ext cx="21636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</a:rPr>
                  <a:t>формирование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</a:rPr>
                  <a:t>гражданской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Monotype Corsiva"/>
                  </a:rPr>
                  <a:t>идентичност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Oval 48"/>
            <p:cNvSpPr/>
            <p:nvPr/>
          </p:nvSpPr>
          <p:spPr>
            <a:xfrm>
              <a:off x="1284120" y="2292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9"/>
            <p:cNvSpPr/>
            <p:nvPr/>
          </p:nvSpPr>
          <p:spPr>
            <a:xfrm>
              <a:off x="1360440" y="1685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50"/>
            <p:cNvSpPr/>
            <p:nvPr/>
          </p:nvSpPr>
          <p:spPr>
            <a:xfrm>
              <a:off x="1427040" y="135720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1"/>
            <p:cNvSpPr/>
            <p:nvPr/>
          </p:nvSpPr>
          <p:spPr>
            <a:xfrm>
              <a:off x="1284120" y="1285920"/>
              <a:ext cx="1357560" cy="1214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52"/>
            <p:cNvSpPr/>
            <p:nvPr/>
          </p:nvSpPr>
          <p:spPr>
            <a:xfrm>
              <a:off x="1438200" y="1727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3"/>
            <p:cNvSpPr/>
            <p:nvPr/>
          </p:nvSpPr>
          <p:spPr>
            <a:xfrm>
              <a:off x="1037160" y="1571760"/>
              <a:ext cx="180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Monotype Corsiva"/>
                </a:rPr>
                <a:t>Ценност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Monotype Corsiva"/>
                </a:rPr>
                <a:t>ориенти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54"/>
            <p:cNvSpPr/>
            <p:nvPr/>
          </p:nvSpPr>
          <p:spPr>
            <a:xfrm>
              <a:off x="2550960" y="1819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55"/>
            <p:cNvSpPr/>
            <p:nvPr/>
          </p:nvSpPr>
          <p:spPr>
            <a:xfrm>
              <a:off x="2673360" y="1285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56"/>
            <p:cNvSpPr/>
            <p:nvPr/>
          </p:nvSpPr>
          <p:spPr>
            <a:xfrm>
              <a:off x="2682720" y="1289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57"/>
            <p:cNvSpPr/>
            <p:nvPr/>
          </p:nvSpPr>
          <p:spPr>
            <a:xfrm>
              <a:off x="2689200" y="1295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8"/>
            <p:cNvSpPr/>
            <p:nvPr/>
          </p:nvSpPr>
          <p:spPr>
            <a:xfrm>
              <a:off x="2725560" y="1314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9"/>
            <p:cNvSpPr/>
            <p:nvPr/>
          </p:nvSpPr>
          <p:spPr>
            <a:xfrm>
              <a:off x="2646360" y="142884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Monotype Corsiva"/>
                </a:rPr>
                <a:t>УУ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642960" y="5357880"/>
            <a:ext cx="77040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0000"/>
                </a:solidFill>
                <a:latin typeface="Arial"/>
              </a:rPr>
              <a:t>ДЕЯТЕЛЬНОСТНЫЙ ПОДХОД −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зиция, взгляд, точка зрения на способ преподавания, при котором учащийся осваивает культуру не путем простой передачи информации, а в процессе собственной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19,-2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27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879480" y="604800"/>
            <a:ext cx="7427880" cy="132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60000"/>
                </a:solidFill>
                <a:latin typeface="Arial"/>
                <a:ea typeface="Arial"/>
              </a:rPr>
              <a:t>Концептуальная идея формирования УУД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br>
              <a:rPr sz="5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мение выполнять УУД формируется тем же способом, что и любое ум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4"/>
          <p:cNvGrpSpPr/>
          <p:nvPr/>
        </p:nvGrpSpPr>
        <p:grpSpPr>
          <a:xfrm>
            <a:off x="431640" y="1925640"/>
            <a:ext cx="7956360" cy="4455720"/>
            <a:chOff x="431640" y="1925640"/>
            <a:chExt cx="7956360" cy="4455720"/>
          </a:xfrm>
        </p:grpSpPr>
        <p:pic>
          <p:nvPicPr>
            <p:cNvPr id="279" name="Picture 15" descr="MCj04320290000[1]"/>
            <p:cNvPicPr/>
            <p:nvPr/>
          </p:nvPicPr>
          <p:blipFill>
            <a:blip r:embed="rId1"/>
            <a:stretch/>
          </p:blipFill>
          <p:spPr>
            <a:xfrm>
              <a:off x="576000" y="5327640"/>
              <a:ext cx="100800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6" descr="MCj03463150000[1]"/>
            <p:cNvPicPr/>
            <p:nvPr/>
          </p:nvPicPr>
          <p:blipFill>
            <a:blip r:embed="rId2"/>
            <a:stretch/>
          </p:blipFill>
          <p:spPr>
            <a:xfrm>
              <a:off x="7308720" y="2139480"/>
              <a:ext cx="87948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7" descr="MPj04393670000[1]"/>
            <p:cNvPicPr/>
            <p:nvPr/>
          </p:nvPicPr>
          <p:blipFill>
            <a:blip r:embed="rId3"/>
            <a:stretch/>
          </p:blipFill>
          <p:spPr>
            <a:xfrm>
              <a:off x="7164360" y="5350680"/>
              <a:ext cx="1223640" cy="100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Rectangle 18"/>
            <p:cNvSpPr/>
            <p:nvPr/>
          </p:nvSpPr>
          <p:spPr>
            <a:xfrm>
              <a:off x="2049120" y="2179080"/>
              <a:ext cx="4962600" cy="65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60000"/>
                  </a:solidFill>
                  <a:latin typeface="Arial"/>
                  <a:ea typeface="Arial"/>
                </a:rPr>
                <a:t>Как сформировать у ребенка умение </a:t>
              </a:r>
              <a:br>
                <a:rPr sz="2000"/>
              </a:br>
              <a:r>
                <a:rPr b="1" lang="ru-RU" sz="2000" spc="-1" strike="noStrike">
                  <a:solidFill>
                    <a:srgbClr val="d60000"/>
                  </a:solidFill>
                  <a:latin typeface="Arial"/>
                  <a:ea typeface="Arial"/>
                </a:rPr>
                <a:t>переходить через дорогу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19" descr="MCBD07303_0000[1]"/>
            <p:cNvPicPr/>
            <p:nvPr/>
          </p:nvPicPr>
          <p:blipFill>
            <a:blip r:embed="rId4"/>
            <a:stretch/>
          </p:blipFill>
          <p:spPr>
            <a:xfrm>
              <a:off x="431640" y="1925640"/>
              <a:ext cx="1297080" cy="134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Text Box 20"/>
          <p:cNvSpPr/>
          <p:nvPr/>
        </p:nvSpPr>
        <p:spPr>
          <a:xfrm>
            <a:off x="2556000" y="5815080"/>
            <a:ext cx="4011480" cy="517320"/>
          </a:xfrm>
          <a:prstGeom prst="rect">
            <a:avLst/>
          </a:prstGeom>
          <a:solidFill>
            <a:srgbClr val="ffffcc"/>
          </a:solidFill>
          <a:ln w="38160">
            <a:solidFill>
              <a:srgbClr val="229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t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2597040" y="4878360"/>
            <a:ext cx="3931920" cy="1009440"/>
            <a:chOff x="2597040" y="4878360"/>
            <a:chExt cx="3931920" cy="1009440"/>
          </a:xfrm>
        </p:grpSpPr>
        <p:sp>
          <p:nvSpPr>
            <p:cNvPr id="286" name="Line 22"/>
            <p:cNvSpPr/>
            <p:nvPr/>
          </p:nvSpPr>
          <p:spPr>
            <a:xfrm>
              <a:off x="4561920" y="5610240"/>
              <a:ext cx="5400" cy="277560"/>
            </a:xfrm>
            <a:prstGeom prst="line">
              <a:avLst/>
            </a:prstGeom>
            <a:ln w="38160">
              <a:solidFill>
                <a:srgbClr val="22945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3"/>
            <p:cNvSpPr/>
            <p:nvPr/>
          </p:nvSpPr>
          <p:spPr>
            <a:xfrm>
              <a:off x="2597040" y="4878360"/>
              <a:ext cx="3931920" cy="738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229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Тренинг в применении знаний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самоконтроль и коррекц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4"/>
          <p:cNvGrpSpPr/>
          <p:nvPr/>
        </p:nvGrpSpPr>
        <p:grpSpPr>
          <a:xfrm>
            <a:off x="2597040" y="3941640"/>
            <a:ext cx="3931920" cy="1009440"/>
            <a:chOff x="2597040" y="3941640"/>
            <a:chExt cx="3931920" cy="1009440"/>
          </a:xfrm>
        </p:grpSpPr>
        <p:sp>
          <p:nvSpPr>
            <p:cNvPr id="289" name="Text Box 25"/>
            <p:cNvSpPr/>
            <p:nvPr/>
          </p:nvSpPr>
          <p:spPr>
            <a:xfrm>
              <a:off x="2597040" y="3941640"/>
              <a:ext cx="3931920" cy="738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229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риобретение знаний о способе выполнения действ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>
              <a:off x="4560120" y="4673520"/>
              <a:ext cx="5400" cy="277560"/>
            </a:xfrm>
            <a:prstGeom prst="line">
              <a:avLst/>
            </a:prstGeom>
            <a:ln w="38160">
              <a:solidFill>
                <a:srgbClr val="22945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27"/>
          <p:cNvGrpSpPr/>
          <p:nvPr/>
        </p:nvGrpSpPr>
        <p:grpSpPr>
          <a:xfrm>
            <a:off x="2602080" y="3062160"/>
            <a:ext cx="3931560" cy="952200"/>
            <a:chOff x="2602080" y="3062160"/>
            <a:chExt cx="3931560" cy="952200"/>
          </a:xfrm>
        </p:grpSpPr>
        <p:sp>
          <p:nvSpPr>
            <p:cNvPr id="292" name="Text Box 28"/>
            <p:cNvSpPr/>
            <p:nvPr/>
          </p:nvSpPr>
          <p:spPr>
            <a:xfrm>
              <a:off x="2602080" y="3062160"/>
              <a:ext cx="3931560" cy="6451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229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редставление о действии. первичный опыт и мотивац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9"/>
            <p:cNvSpPr/>
            <p:nvPr/>
          </p:nvSpPr>
          <p:spPr>
            <a:xfrm>
              <a:off x="4565160" y="3700440"/>
              <a:ext cx="5400" cy="313920"/>
            </a:xfrm>
            <a:prstGeom prst="line">
              <a:avLst/>
            </a:prstGeom>
            <a:ln w="38160">
              <a:solidFill>
                <a:srgbClr val="22945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100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1000" autoRev="1" fill="hold"/>
                                        <p:tgtEl>
                                          <p:spTgt spid="2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100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29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0"/>
          <p:cNvSpPr/>
          <p:nvPr/>
        </p:nvSpPr>
        <p:spPr>
          <a:xfrm>
            <a:off x="755640" y="858960"/>
            <a:ext cx="7632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03200"/>
                </a:solidFill>
                <a:latin typeface="Arial"/>
              </a:rPr>
              <a:t>КАК ПРОВОДИТЬ УРО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755640" y="2743200"/>
            <a:ext cx="7634160" cy="253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ужно создать условия для того, чтобы ученик приобретал </a:t>
            </a:r>
            <a:r>
              <a:rPr b="1" i="1" lang="ru-RU" sz="3200" spc="-1" strike="noStrike">
                <a:solidFill>
                  <a:srgbClr val="d03200"/>
                </a:solidFill>
                <a:latin typeface="Arial"/>
              </a:rPr>
              <a:t>опыт самоизменения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Таким образом, он будет выполнять весь комплекс УУД, входящих в ФГО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755640" y="1685880"/>
            <a:ext cx="7632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1-й этап формирования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301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0"/>
          <p:cNvSpPr/>
          <p:nvPr/>
        </p:nvSpPr>
        <p:spPr>
          <a:xfrm>
            <a:off x="785880" y="500040"/>
            <a:ext cx="7632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АК ЧЕЛОВЕК ИЗМЕНЯЕТ СЕБЯ, ПОЗНАЕТ НОВ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946080" y="3573360"/>
            <a:ext cx="204156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1258920" y="3213000"/>
            <a:ext cx="1293840" cy="1246320"/>
            <a:chOff x="1258920" y="3213000"/>
            <a:chExt cx="1293840" cy="1246320"/>
          </a:xfrm>
        </p:grpSpPr>
        <p:sp>
          <p:nvSpPr>
            <p:cNvPr id="306" name="Oval 10"/>
            <p:cNvSpPr/>
            <p:nvPr/>
          </p:nvSpPr>
          <p:spPr>
            <a:xfrm>
              <a:off x="1258920" y="3213000"/>
              <a:ext cx="1293840" cy="124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>
              <a:off x="1488960" y="3776760"/>
              <a:ext cx="3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2"/>
            <p:cNvSpPr/>
            <p:nvPr/>
          </p:nvSpPr>
          <p:spPr>
            <a:xfrm>
              <a:off x="1420920" y="3751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3"/>
          <p:cNvSpPr/>
          <p:nvPr/>
        </p:nvSpPr>
        <p:spPr>
          <a:xfrm>
            <a:off x="3500280" y="2286000"/>
            <a:ext cx="4969080" cy="2858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1 −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ствие, в котором возник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рудн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2 −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иксирование затруд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3 −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нализ этапов действия и  опре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ста затруднения (исследование − 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4 −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пределение причины затруд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ритика − К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5 −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ановка цели и проектирование (П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e3892f"/>
                </a:solidFill>
                <a:latin typeface="Arial"/>
              </a:rPr>
              <a:t>6 −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ализация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1604880" y="3319560"/>
            <a:ext cx="295200" cy="685800"/>
            <a:chOff x="1604880" y="3319560"/>
            <a:chExt cx="295200" cy="685800"/>
          </a:xfrm>
        </p:grpSpPr>
        <p:sp>
          <p:nvSpPr>
            <p:cNvPr id="311" name="Line 15"/>
            <p:cNvSpPr/>
            <p:nvPr/>
          </p:nvSpPr>
          <p:spPr>
            <a:xfrm>
              <a:off x="1884240" y="3484440"/>
              <a:ext cx="0" cy="520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1604880" y="3319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1920600" y="3319560"/>
            <a:ext cx="671400" cy="1957320"/>
            <a:chOff x="1920600" y="3319560"/>
            <a:chExt cx="671400" cy="1957320"/>
          </a:xfrm>
        </p:grpSpPr>
        <p:sp>
          <p:nvSpPr>
            <p:cNvPr id="314" name="Line 18"/>
            <p:cNvSpPr/>
            <p:nvPr/>
          </p:nvSpPr>
          <p:spPr>
            <a:xfrm flipH="1" flipV="1">
              <a:off x="1920600" y="3656160"/>
              <a:ext cx="671400" cy="16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925640" y="3652920"/>
              <a:ext cx="3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0"/>
            <p:cNvSpPr/>
            <p:nvPr/>
          </p:nvSpPr>
          <p:spPr>
            <a:xfrm>
              <a:off x="1995480" y="3319560"/>
              <a:ext cx="30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1"/>
          <p:cNvGrpSpPr/>
          <p:nvPr/>
        </p:nvGrpSpPr>
        <p:grpSpPr>
          <a:xfrm>
            <a:off x="1319040" y="4964040"/>
            <a:ext cx="463680" cy="643680"/>
            <a:chOff x="1319040" y="4964040"/>
            <a:chExt cx="463680" cy="643680"/>
          </a:xfrm>
        </p:grpSpPr>
        <p:sp>
          <p:nvSpPr>
            <p:cNvPr id="318" name="Line 22"/>
            <p:cNvSpPr/>
            <p:nvPr/>
          </p:nvSpPr>
          <p:spPr>
            <a:xfrm>
              <a:off x="1319040" y="5283360"/>
              <a:ext cx="43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3"/>
            <p:cNvSpPr/>
            <p:nvPr/>
          </p:nvSpPr>
          <p:spPr>
            <a:xfrm>
              <a:off x="1360440" y="527040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4"/>
            <p:cNvSpPr/>
            <p:nvPr/>
          </p:nvSpPr>
          <p:spPr>
            <a:xfrm>
              <a:off x="1409760" y="496404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3892f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5"/>
          <p:cNvGrpSpPr/>
          <p:nvPr/>
        </p:nvGrpSpPr>
        <p:grpSpPr>
          <a:xfrm>
            <a:off x="1751040" y="4964040"/>
            <a:ext cx="433440" cy="643680"/>
            <a:chOff x="1751040" y="4964040"/>
            <a:chExt cx="433440" cy="643680"/>
          </a:xfrm>
        </p:grpSpPr>
        <p:sp>
          <p:nvSpPr>
            <p:cNvPr id="322" name="Line 26"/>
            <p:cNvSpPr/>
            <p:nvPr/>
          </p:nvSpPr>
          <p:spPr>
            <a:xfrm>
              <a:off x="1751040" y="528336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760400" y="5270400"/>
              <a:ext cx="30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795320" y="4964040"/>
              <a:ext cx="3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3892f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2179800" y="4964040"/>
            <a:ext cx="434880" cy="643680"/>
            <a:chOff x="2179800" y="4964040"/>
            <a:chExt cx="434880" cy="643680"/>
          </a:xfrm>
        </p:grpSpPr>
        <p:sp>
          <p:nvSpPr>
            <p:cNvPr id="326" name="Line 30"/>
            <p:cNvSpPr/>
            <p:nvPr/>
          </p:nvSpPr>
          <p:spPr>
            <a:xfrm>
              <a:off x="2179800" y="5283360"/>
              <a:ext cx="43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2184480" y="5270400"/>
              <a:ext cx="30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2"/>
            <p:cNvSpPr/>
            <p:nvPr/>
          </p:nvSpPr>
          <p:spPr>
            <a:xfrm>
              <a:off x="2182680" y="4964040"/>
              <a:ext cx="3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3892f"/>
                  </a:solidFill>
                  <a:latin typeface="Arial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Line 33"/>
          <p:cNvSpPr/>
          <p:nvPr/>
        </p:nvSpPr>
        <p:spPr>
          <a:xfrm flipH="1">
            <a:off x="1320480" y="3776760"/>
            <a:ext cx="538200" cy="1506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857160" y="1714680"/>
            <a:ext cx="751860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a0000"/>
                </a:solidFill>
                <a:latin typeface="Arial"/>
              </a:rPr>
              <a:t>Схема-аксиома </a:t>
            </a:r>
            <a:r>
              <a:rPr b="1" lang="ru-RU" sz="2200" spc="-1" strike="noStrike">
                <a:solidFill>
                  <a:srgbClr val="da0000"/>
                </a:solidFill>
                <a:latin typeface="Times New Roman"/>
              </a:rPr>
              <a:t>«</a:t>
            </a:r>
            <a:r>
              <a:rPr b="1" lang="ru-RU" sz="2200" spc="-1" strike="noStrike">
                <a:solidFill>
                  <a:srgbClr val="da0000"/>
                </a:solidFill>
                <a:latin typeface="Arial"/>
              </a:rPr>
              <a:t>Рефлексивная самоорганизация</a:t>
            </a:r>
            <a:r>
              <a:rPr b="1" lang="ru-RU" sz="2200" spc="-1" strike="noStrike">
                <a:solidFill>
                  <a:srgbClr val="da0000"/>
                </a:solidFill>
                <a:latin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5" descr="p159"/>
          <p:cNvPicPr/>
          <p:nvPr/>
        </p:nvPicPr>
        <p:blipFill>
          <a:blip r:embed="rId1"/>
          <a:stretch/>
        </p:blipFill>
        <p:spPr>
          <a:xfrm>
            <a:off x="2357280" y="4424400"/>
            <a:ext cx="3384720" cy="24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2"/>
          <p:cNvSpPr/>
          <p:nvPr/>
        </p:nvSpPr>
        <p:spPr>
          <a:xfrm>
            <a:off x="642960" y="1714680"/>
            <a:ext cx="7429320" cy="4458960"/>
          </a:xfrm>
          <a:prstGeom prst="rect">
            <a:avLst/>
          </a:prstGeom>
          <a:solidFill>
            <a:srgbClr val="ff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 Мотивация (самоопределение) 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 Актуализация знаний и фиксирование индивидуального затруднения в пробном действ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 Выявление места и причины затруд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 Построение проекта выхода из затруд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 Реализация построенного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  Первичное закрепление с проговариванием во внешне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)  Самостоятельная работа с самопроверкой по этал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)  Включение в систему знаний и повт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)  Рефлексия учебн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2"/>
          <p:cNvSpPr/>
          <p:nvPr/>
        </p:nvSpPr>
        <p:spPr>
          <a:xfrm>
            <a:off x="285840" y="285840"/>
            <a:ext cx="7632720" cy="9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00000"/>
                </a:solidFill>
                <a:latin typeface="Arial"/>
              </a:rPr>
              <a:t>Технология деятельностного мет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00000"/>
                </a:solidFill>
                <a:latin typeface="Arial"/>
              </a:rPr>
              <a:t>(ТДМ)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33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19"/>
          <p:cNvSpPr/>
          <p:nvPr/>
        </p:nvSpPr>
        <p:spPr>
          <a:xfrm>
            <a:off x="928800" y="5000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00"/>
                </a:solidFill>
                <a:latin typeface="Arial"/>
                <a:ea typeface="Arial"/>
              </a:rPr>
              <a:t>УУД, выполняемые уча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00"/>
                </a:solidFill>
                <a:latin typeface="Arial"/>
                <a:ea typeface="Arial"/>
              </a:rPr>
              <a:t>при работе по ТД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14240" y="1357200"/>
          <a:ext cx="7799400" cy="4999320"/>
        </p:xfrm>
        <a:graphic>
          <a:graphicData uri="http://schemas.openxmlformats.org/drawingml/2006/table">
            <a:tbl>
              <a:tblPr/>
              <a:tblGrid>
                <a:gridCol w="3565800"/>
                <a:gridCol w="4233600"/>
              </a:tblGrid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3892f"/>
                          </a:solidFill>
                          <a:latin typeface="Arial"/>
                        </a:rPr>
                        <a:t>Этап 4. ПОСТРОЕНИЕ ПРОЕКТА ВЫХО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3892f"/>
                          </a:solidFill>
                          <a:latin typeface="Arial"/>
                        </a:rPr>
                        <a:t>ИЗ ЗАТРУДНЕНИЯ</a:t>
                      </a:r>
                      <a:r>
                        <a:rPr b="1" lang="ru-RU" sz="2000" spc="-1" strike="noStrike">
                          <a:solidFill>
                            <a:srgbClr val="e3892f"/>
                          </a:solidFill>
                          <a:latin typeface="Arial"/>
                        </a:rPr>
                        <a:t>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7e2"/>
                      </a:solidFill>
                    </a:lnL>
                    <a:lnR w="13680">
                      <a:solidFill>
                        <a:srgbClr val="0087e2"/>
                      </a:solidFill>
                    </a:lnR>
                    <a:lnT w="13680">
                      <a:solidFill>
                        <a:srgbClr val="0087e2"/>
                      </a:solidFill>
                    </a:lnT>
                    <a:lnB w="13680">
                      <a:solidFill>
                        <a:srgbClr val="0087e2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к этап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7e2"/>
                      </a:solidFill>
                    </a:lnL>
                    <a:lnR w="13680">
                      <a:solidFill>
                        <a:srgbClr val="0087e2"/>
                      </a:solidFill>
                    </a:lnR>
                    <a:lnT w="13680">
                      <a:solidFill>
                        <a:srgbClr val="0087e2"/>
                      </a:solidFill>
                    </a:lnT>
                    <a:lnB w="13680">
                      <a:solidFill>
                        <a:srgbClr val="0087e2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Д, выполняемые учащими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7e2"/>
                      </a:solidFill>
                    </a:lnL>
                    <a:lnR w="13680">
                      <a:solidFill>
                        <a:srgbClr val="0087e2"/>
                      </a:solidFill>
                    </a:lnR>
                    <a:lnT w="13680">
                      <a:solidFill>
                        <a:srgbClr val="0087e2"/>
                      </a:solidFill>
                    </a:lnT>
                    <a:lnB w="13680">
                      <a:solidFill>
                        <a:srgbClr val="0087e2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6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данном этапе учащиеся в коммуникативной форме обдумывают проект будущих учебных действий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вят </a:t>
                      </a:r>
                      <a:r>
                        <a:rPr b="1" lang="ru-RU" sz="1800" spc="-1" strike="noStrike">
                          <a:solidFill>
                            <a:srgbClr val="0066ff"/>
                          </a:solidFill>
                          <a:latin typeface="Arial"/>
                          <a:ea typeface="Times New Roman"/>
                        </a:rPr>
                        <a:t>цел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ирают </a:t>
                      </a:r>
                      <a:r>
                        <a:rPr b="1" lang="ru-RU" sz="1800" spc="-1" strike="noStrike">
                          <a:solidFill>
                            <a:srgbClr val="cc66ff"/>
                          </a:solidFill>
                          <a:latin typeface="Arial"/>
                          <a:ea typeface="Times New Roman"/>
                        </a:rPr>
                        <a:t>способ</a:t>
                      </a:r>
                      <a:r>
                        <a:rPr b="0" lang="ru-RU" sz="1800" spc="-1" strike="noStrike">
                          <a:solidFill>
                            <a:srgbClr val="ff66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оят </a:t>
                      </a:r>
                      <a:r>
                        <a:rPr b="1" lang="ru-RU" sz="1800" spc="-1" strike="noStrike">
                          <a:solidFill>
                            <a:srgbClr val="229450"/>
                          </a:solidFill>
                          <a:latin typeface="Arial"/>
                          <a:ea typeface="Times New Roman"/>
                        </a:rPr>
                        <a:t>пла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остижения цел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ют </a:t>
                      </a:r>
                      <a:r>
                        <a:rPr b="1" lang="ru-RU" sz="18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средства, ресурсы и сро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гласовывают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у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7e2"/>
                      </a:solidFill>
                    </a:lnL>
                    <a:lnR w="13680">
                      <a:solidFill>
                        <a:srgbClr val="0087e2"/>
                      </a:solidFill>
                    </a:lnR>
                    <a:lnT w="13680">
                      <a:solidFill>
                        <a:srgbClr val="0087e2"/>
                      </a:solidFill>
                    </a:lnT>
                    <a:lnB w="13680">
                      <a:solidFill>
                        <a:srgbClr val="0087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</a:t>
                      </a:r>
                      <a:r>
                        <a:rPr b="1" lang="ru-RU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цел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ч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ор </a:t>
                      </a:r>
                      <a:r>
                        <a:rPr b="1" lang="ru-RU" sz="1800" spc="-1" strike="noStrike">
                          <a:solidFill>
                            <a:srgbClr val="cc66ff"/>
                          </a:solidFill>
                          <a:latin typeface="Arial"/>
                          <a:ea typeface="Times New Roman"/>
                        </a:rPr>
                        <a:t>способ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решения задач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229450"/>
                          </a:solidFill>
                          <a:latin typeface="Arial"/>
                          <a:ea typeface="Times New Roman"/>
                        </a:rPr>
                        <a:t>планиров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 </a:t>
                      </a:r>
                      <a:r>
                        <a:rPr b="1" lang="ru-RU" sz="1800" spc="-1" strike="noStrike">
                          <a:solidFill>
                            <a:srgbClr val="ff9900"/>
                          </a:solidFill>
                          <a:latin typeface="Arial"/>
                          <a:ea typeface="Times New Roman"/>
                        </a:rPr>
                        <a:t>проектиров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ознан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роение речев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казывания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гументац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своего мнения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т разных мнений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ыслообразов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7e2"/>
                      </a:solidFill>
                    </a:lnL>
                    <a:lnR w="13680">
                      <a:solidFill>
                        <a:srgbClr val="0087e2"/>
                      </a:solidFill>
                    </a:lnR>
                    <a:lnT w="13680">
                      <a:solidFill>
                        <a:srgbClr val="0087e2"/>
                      </a:solidFill>
                    </a:lnT>
                    <a:lnB w="13680">
                      <a:solidFill>
                        <a:srgbClr val="0087e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380880" y="1197000"/>
            <a:ext cx="84646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spcBef>
                <a:spcPts val="1100"/>
              </a:spcBef>
              <a:tabLst>
                <a:tab algn="l" pos="0"/>
                <a:tab algn="l" pos="272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Учебным действием является лишь то действие, которое «цепляет» ум уче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spcBef>
                <a:spcPts val="1100"/>
              </a:spcBef>
              <a:tabLst>
                <a:tab algn="l" pos="0"/>
                <a:tab algn="l" pos="272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Это действие, выполнение которого требует изменения стереотипов, то есть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амоизменения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214200" y="285840"/>
            <a:ext cx="7321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следовательная реализация СД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вышает эффективность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 показателям</a:t>
            </a:r>
            <a:r>
              <a:rPr b="1" lang="ru-RU" sz="2800" spc="-1" strike="noStrike">
                <a:solidFill>
                  <a:srgbClr val="6666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357120" y="1500120"/>
            <a:ext cx="84646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дание результатам образования социально- и личностно-значимого характе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олее гибкое и прочное усвоение знаний учащимися, возможность их самостоятельного движения в изучаемой обла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дифференцированного обучения с сохранением единой структуры теоретических зна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228600" y="765000"/>
            <a:ext cx="876924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79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щественное повышение мотивации и интереса к учению у обучаем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79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условий для общекультурного и личностного развития на основе формирования УУД, обеспечивающих не только успешное усвоение знаний, умений и навыков, но и формирование картины мира и компетентностей в любой предметной области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28760" y="107136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Задача системы образования состоит 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не в передаче объема знаний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, а в том, чтобы 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научить учиться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ри этом 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становление учебной деятельности означает становление духовного развития личности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ризис образования заключается в обнищании души при обогащении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250920" y="620640"/>
            <a:ext cx="8591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0062"/>
                </a:solidFill>
                <a:latin typeface="Arial"/>
                <a:ea typeface="Arial"/>
              </a:rPr>
              <a:t>Деятельностный подход обусловливает изменение общей парадигмы образования, которая находит отражение в перех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179280" y="2349360"/>
            <a:ext cx="86662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т изолированного изучения учащимися системы научных понятий, составляющих содержание учебного предмета, к включению содержания обучения в контекст решения значимых жизненных задач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т индивидуальной формы усвоения знаний к признанию решающей роли учебного сотрудничества в достижении целей об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7272360" y="500040"/>
            <a:ext cx="1871640" cy="1395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286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Продуктивные задания – главное средство</a:t>
            </a:r>
            <a:endParaRPr b="1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76312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ешению продуктивных задач надо учи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смыс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ние (что надо сделать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й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ую информацию (текст, рис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реобразуй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ю в соответствии с заданием (найти причину, выделить главное, дать оценку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формулируй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устно/письменно) ответ, используя слова: «я считаю что…, потому что во-первых…, во-вторых… и т.д.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ай полный 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ссказ), не рассчитывая на наводящие вопросы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PE01832_"/>
          <p:cNvPicPr/>
          <p:nvPr/>
        </p:nvPicPr>
        <p:blipFill>
          <a:blip r:embed="rId2"/>
          <a:stretch/>
        </p:blipFill>
        <p:spPr>
          <a:xfrm>
            <a:off x="-36360" y="457200"/>
            <a:ext cx="1752480" cy="1601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5003640" y="571680"/>
            <a:ext cx="3149640" cy="764280"/>
          </a:xfrm>
          <a:prstGeom prst="rect">
            <a:avLst/>
          </a:prstGeom>
          <a:noFill/>
          <a:ln w="38160">
            <a:solidFill>
              <a:srgbClr val="2994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 что Петр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ывали «великим»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187280" y="571680"/>
            <a:ext cx="3384720" cy="764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скажи текст о Петр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4572000" y="7621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 flipH="1">
            <a:off x="4716000" y="85896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967280" y="1752480"/>
            <a:ext cx="4176720" cy="109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2994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чему корабли сделанные из железа не тону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1150920" y="1820880"/>
            <a:ext cx="3384720" cy="764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числи основные свойства в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4535640" y="193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 flipH="1">
            <a:off x="4679640" y="201132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5181480" y="685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6"/>
          <p:cNvSpPr/>
          <p:nvPr/>
        </p:nvSpPr>
        <p:spPr>
          <a:xfrm>
            <a:off x="5105520" y="19051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0"/>
          <p:cNvSpPr/>
          <p:nvPr/>
        </p:nvSpPr>
        <p:spPr>
          <a:xfrm>
            <a:off x="380880" y="800280"/>
            <a:ext cx="4013280" cy="1008000"/>
          </a:xfrm>
          <a:prstGeom prst="wedgeRoundRectCallout">
            <a:avLst>
              <a:gd name="adj1" fmla="val 70115"/>
              <a:gd name="adj2" fmla="val -513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чностн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0"/>
          <p:cNvSpPr/>
          <p:nvPr/>
        </p:nvSpPr>
        <p:spPr>
          <a:xfrm>
            <a:off x="366840" y="2133720"/>
            <a:ext cx="4012920" cy="1008000"/>
          </a:xfrm>
          <a:prstGeom prst="wedgeRoundRectCallout">
            <a:avLst>
              <a:gd name="adj1" fmla="val 68736"/>
              <a:gd name="adj2" fmla="val -5821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знавательные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76320" y="1412640"/>
            <a:ext cx="4464000" cy="504036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ый взгляд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задание: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Перескаж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Тема: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Сегодня мы будем изучать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бъяснение: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Итак, слушайте внимательн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Закрепление: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Повторите что…? Когда…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4606920" y="1511280"/>
            <a:ext cx="4537080" cy="534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блемно-диалогически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Постановка проблемы:         -</a:t>
            </a:r>
            <a:r>
              <a:rPr b="0" lang="ru-RU" sz="2400" spc="-1" strike="noStrike">
                <a:solidFill>
                  <a:srgbClr val="299410"/>
                </a:solidFill>
                <a:latin typeface="Arial"/>
              </a:rPr>
              <a:t>«С одной стороны… , но с другой стороны …»;        -«Что вас удивляет? …»   -«Какой возникает вопрос? (проблема)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Актуализация: </a:t>
            </a:r>
            <a:r>
              <a:rPr b="0" lang="ru-RU" sz="2400" spc="-1" strike="noStrike">
                <a:solidFill>
                  <a:srgbClr val="299410"/>
                </a:solidFill>
                <a:latin typeface="Arial"/>
              </a:rPr>
              <a:t>«Вспомните, что мы уже знаем по этой проблем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иск решения: </a:t>
            </a:r>
            <a:r>
              <a:rPr b="0" lang="ru-RU" sz="2400" spc="-1" strike="noStrike">
                <a:solidFill>
                  <a:srgbClr val="299410"/>
                </a:solidFill>
                <a:latin typeface="Arial"/>
              </a:rPr>
              <a:t>«По тексту определите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ешение: </a:t>
            </a:r>
            <a:r>
              <a:rPr b="0" lang="ru-RU" sz="2400" spc="-1" strike="noStrike">
                <a:solidFill>
                  <a:srgbClr val="299410"/>
                </a:solidFill>
                <a:latin typeface="Arial"/>
              </a:rPr>
              <a:t>«Как мы можем ответить на наш вопрос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"/>
          <p:cNvSpPr/>
          <p:nvPr/>
        </p:nvSpPr>
        <p:spPr>
          <a:xfrm flipV="1">
            <a:off x="3132000" y="2707920"/>
            <a:ext cx="1871640" cy="12970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3564000" y="6165720"/>
            <a:ext cx="115236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3635280" y="4797360"/>
            <a:ext cx="1224000" cy="5032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7"/>
          <p:cNvSpPr/>
          <p:nvPr/>
        </p:nvSpPr>
        <p:spPr>
          <a:xfrm>
            <a:off x="3132000" y="2637000"/>
            <a:ext cx="1871640" cy="1584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428760" y="0"/>
            <a:ext cx="8358120" cy="1403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блемно-диалогическая технология</a:t>
            </a:r>
            <a:br>
              <a:rPr sz="32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ь - обучить самостоятельному решению пробле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ГОС)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редство - открытие знаний вместе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6705720" y="94464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.Л.Мельни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9"/>
          <p:cNvGrpSpPr/>
          <p:nvPr/>
        </p:nvGrpSpPr>
        <p:grpSpPr>
          <a:xfrm>
            <a:off x="3886200" y="2154240"/>
            <a:ext cx="5514840" cy="4378320"/>
            <a:chOff x="3886200" y="2154240"/>
            <a:chExt cx="5514840" cy="4378320"/>
          </a:xfrm>
        </p:grpSpPr>
        <p:pic>
          <p:nvPicPr>
            <p:cNvPr id="370" name="Picture 20" descr=""/>
            <p:cNvPicPr/>
            <p:nvPr/>
          </p:nvPicPr>
          <p:blipFill>
            <a:blip r:embed="rId1"/>
            <a:stretch/>
          </p:blipFill>
          <p:spPr>
            <a:xfrm>
              <a:off x="3921120" y="5087880"/>
              <a:ext cx="65088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21" descr=""/>
            <p:cNvPicPr/>
            <p:nvPr/>
          </p:nvPicPr>
          <p:blipFill>
            <a:blip r:embed="rId2"/>
            <a:stretch/>
          </p:blipFill>
          <p:spPr>
            <a:xfrm>
              <a:off x="4403880" y="4194000"/>
              <a:ext cx="474012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22" descr=""/>
            <p:cNvPicPr/>
            <p:nvPr/>
          </p:nvPicPr>
          <p:blipFill>
            <a:blip r:embed="rId3"/>
            <a:stretch/>
          </p:blipFill>
          <p:spPr>
            <a:xfrm>
              <a:off x="3886200" y="4137120"/>
              <a:ext cx="60804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23" descr=""/>
            <p:cNvPicPr/>
            <p:nvPr/>
          </p:nvPicPr>
          <p:blipFill>
            <a:blip r:embed="rId4"/>
            <a:stretch/>
          </p:blipFill>
          <p:spPr>
            <a:xfrm>
              <a:off x="4362480" y="2243160"/>
              <a:ext cx="478152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4" descr=""/>
            <p:cNvPicPr/>
            <p:nvPr/>
          </p:nvPicPr>
          <p:blipFill>
            <a:blip r:embed="rId5"/>
            <a:stretch/>
          </p:blipFill>
          <p:spPr>
            <a:xfrm>
              <a:off x="3927600" y="2154240"/>
              <a:ext cx="56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25" descr=""/>
            <p:cNvPicPr/>
            <p:nvPr/>
          </p:nvPicPr>
          <p:blipFill>
            <a:blip r:embed="rId6"/>
            <a:stretch/>
          </p:blipFill>
          <p:spPr>
            <a:xfrm>
              <a:off x="4495680" y="5249880"/>
              <a:ext cx="490536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27" descr=""/>
            <p:cNvPicPr/>
            <p:nvPr/>
          </p:nvPicPr>
          <p:blipFill>
            <a:blip r:embed="rId7"/>
            <a:stretch/>
          </p:blipFill>
          <p:spPr>
            <a:xfrm>
              <a:off x="3927600" y="5943600"/>
              <a:ext cx="56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8" descr=""/>
            <p:cNvPicPr/>
            <p:nvPr/>
          </p:nvPicPr>
          <p:blipFill>
            <a:blip r:embed="rId8"/>
            <a:stretch/>
          </p:blipFill>
          <p:spPr>
            <a:xfrm>
              <a:off x="4495680" y="6035760"/>
              <a:ext cx="4267440" cy="47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AutoShape 60"/>
          <p:cNvSpPr/>
          <p:nvPr/>
        </p:nvSpPr>
        <p:spPr>
          <a:xfrm>
            <a:off x="468360" y="2637000"/>
            <a:ext cx="4011480" cy="1008000"/>
          </a:xfrm>
          <a:prstGeom prst="wedgeRoundRectCallout">
            <a:avLst>
              <a:gd name="adj1" fmla="val 96013"/>
              <a:gd name="adj2" fmla="val -5546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Регулятивные     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60"/>
          <p:cNvSpPr/>
          <p:nvPr/>
        </p:nvSpPr>
        <p:spPr>
          <a:xfrm>
            <a:off x="453960" y="3970440"/>
            <a:ext cx="4013280" cy="1008000"/>
          </a:xfrm>
          <a:prstGeom prst="wedgeRoundRectCallout">
            <a:avLst>
              <a:gd name="adj1" fmla="val 70115"/>
              <a:gd name="adj2" fmla="val -91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Коммуникативные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8"/>
          <p:cNvSpPr/>
          <p:nvPr/>
        </p:nvSpPr>
        <p:spPr>
          <a:xfrm>
            <a:off x="357120" y="142920"/>
            <a:ext cx="8358120" cy="1403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ехнология критического мышления</a:t>
            </a:r>
            <a:br>
              <a:rPr sz="3200"/>
            </a:b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развитие мыслительных навыков учащихся, необходимых не только в учёбе, но и в дальнейшей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785880" y="1650600"/>
            <a:ext cx="564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Характерные особенност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о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рытость новым иде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ственное мнение и рефлексия собственных 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6"/>
          <p:cNvSpPr/>
          <p:nvPr/>
        </p:nvSpPr>
        <p:spPr>
          <a:xfrm>
            <a:off x="428760" y="3786120"/>
            <a:ext cx="82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Технология развития критического мышления и её основные стратегии обеспечивают развитие мышления, формирование коммуникативных и творческих способностей. Данная технология отвечает целям образования на современном этапе, вооружает ученика и учителя способами работы с информацией, методами организации учения, самообразования и конструирования собственного образовательного маршр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2"/>
          <p:cNvSpPr/>
          <p:nvPr/>
        </p:nvSpPr>
        <p:spPr>
          <a:xfrm>
            <a:off x="357120" y="500040"/>
            <a:ext cx="842976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ругие педагогически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нформационн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Адаптированная система обучения (АСО) – работа в группах и в п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гровые техноло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роблемно-развивающ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Рейтингов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Технология модуль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Технология коллективного способа обучения (автор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Здоровье-сберегающ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Личностно-ориентированн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4143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ФГОС: СТИХИЙНОЕ БЕДСТВИЕ ИЛИ ОСУЩЕСТВЛЕНИЕ МЕЧТЫ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597200" cy="2948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541680" cy="386532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4" descr=""/>
          <p:cNvPicPr/>
          <p:nvPr/>
        </p:nvPicPr>
        <p:blipFill>
          <a:blip r:embed="rId3"/>
          <a:stretch/>
        </p:blipFill>
        <p:spPr>
          <a:xfrm>
            <a:off x="907920" y="328680"/>
            <a:ext cx="68709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28760" y="92880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облема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: снижение учебной успешности у значительной части учащихся при переходе  из начальной ступени в среднюю вследствие рассогласованности образовательного процесса на ступенях школы на организационном, содержательном и методическом уровн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SDC13010.JPG"/>
          <p:cNvPicPr/>
          <p:nvPr/>
        </p:nvPicPr>
        <p:blipFill>
          <a:blip r:embed="rId1"/>
          <a:stretch/>
        </p:blipFill>
        <p:spPr>
          <a:xfrm>
            <a:off x="5292720" y="4076640"/>
            <a:ext cx="35146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57120" y="500040"/>
            <a:ext cx="85010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Факторы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обусловлено как объективными, так и субъективными факторами. Начальная школа и основная школа кардинально отличаются друг от друга тем, что  устроены по-разному. В начальной школе один учитель, который отвечает за результат работы четырех лет. Кризис основной школы связан с несколькими при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Одна из главны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— трудный пубертатный возраст, взросление, гормональная перестройка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тора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 на смену одному главному учителю, отвечающему за «целое», приходит множество предмет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Треть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усложнение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это накладываются достаточно резкие перемены в жизни школьников - повышение требований к самостоятельности и ответственности учащихся, новые отношения с учителями-предметниками, со сверс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5010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Стандарт трактует понятие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«результат образования»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с позиции деятельностного подхода, согласно которому психологические особенности человека, качества личности есть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результат преобразования внешней предметной деятельности во внутреннюю – психическую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Деятельностный подход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позволяет выделить основные результаты обучения и воспитания, выраженные в терминах ключевых задач развития учащихся и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формирования универсальных способов учебных и познавательных действий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, которые, в свою очередь,  должны быть положены в основу отбора и структурирования содержания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1752480" y="838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Цел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752480" y="167652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ланируемые 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0040" y="2643120"/>
          <a:ext cx="8215200" cy="3214800"/>
        </p:xfrm>
        <a:graphic>
          <a:graphicData uri="http://schemas.openxmlformats.org/drawingml/2006/table">
            <a:tbl>
              <a:tblPr/>
              <a:tblGrid>
                <a:gridCol w="3592440"/>
                <a:gridCol w="4622760"/>
              </a:tblGrid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ыв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ые  результ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предметные результ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ые результ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85800" y="99072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ланируем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57120" y="2971800"/>
          <a:ext cx="8429760" cy="1646280"/>
        </p:xfrm>
        <a:graphic>
          <a:graphicData uri="http://schemas.openxmlformats.org/drawingml/2006/table">
            <a:tbl>
              <a:tblPr/>
              <a:tblGrid>
                <a:gridCol w="1227240"/>
                <a:gridCol w="1719360"/>
                <a:gridCol w="1963440"/>
                <a:gridCol w="2129040"/>
                <a:gridCol w="13906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2294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-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2294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-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2294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-ность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2294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2294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071720" y="714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овые подходы к образов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785880" y="242892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УН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омпетентно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истемно - деятельно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3:06:40Z</dcterms:created>
  <dc:creator>Лиза</dc:creator>
  <dc:description/>
  <dc:language>en-US</dc:language>
  <cp:lastModifiedBy>Admin</cp:lastModifiedBy>
  <dcterms:modified xsi:type="dcterms:W3CDTF">2012-03-20T17:14:18Z</dcterms:modified>
  <cp:revision>66</cp:revision>
  <dc:subject/>
  <dc:title>Системно – деятельностный подход                                                         в обучении младших школьников</dc:title>
</cp:coreProperties>
</file>